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9C39-AC21-4CFC-9701-587DA9B93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CAD7-A548-47C7-9FE6-4280F87D7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E2D2-20D0-40FA-A7E5-F3F503A8E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orleyathletic.com/sports/sports-medicine/skin-fold-calipers/m15450-fat-o-meter-skinfold-calip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152F-510A-494E-BCC5-64D7CA1A2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http://www.collateralmed.com/stethoscope/3mtm-littmannr-classic-ii-s-e-stethoscopes-by-3m-for-5360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5FE0-395A-4DCF-A2E2-A7E72FF47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sites.google.com/site/e65hteam5/technologies/blood-pressure-moni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5E5A-4338-40DF-BC9C-A2AFB34ED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sneurologicals.com/index.php?app=ecom&amp;ns=prodshow&amp;ref=BSP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9316-D92B-401E-8F51-889DB0AC7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admit-online.info/en/background-information-respiration/physiology/definitions/lung-volume-and-capacities/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95E9-5512-43EE-A51F-C690DE4E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45CD-622D-4BF9-97D2-39A080FE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0AB1-BE5D-45EF-81BD-B2DE2C0B8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B92A-0EFB-4B89-A364-DEDD9AF3D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94C5-4617-46EC-9084-8E97EEBF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C124-CB04-4A8B-8130-518909A7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8077-4C77-43F0-96EE-F1965A77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5EE1-4B83-4F76-95DE-E2A2701E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55DF-76C2-4E60-9B53-3EB24002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8014-59D4-4501-9BDE-9C9C5123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9222-BAD4-4790-8043-59D3A78E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F05F-2820-435D-B9BC-562AB9CC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124C-2759-4668-8932-3FEE1B986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dy Measurements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Body Mass Index (B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relevant is BMI?  Read this Grade 9 student’s respon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upworthy.com/asked-about-her-body-mass-index-this-eighth-grader-had-the-best-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ing Body F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BM15450_small"/>
          <p:cNvPicPr/>
          <p:nvPr/>
        </p:nvPicPr>
        <p:blipFill>
          <a:blip r:embed="rId1"/>
          <a:stretch/>
        </p:blipFill>
        <p:spPr>
          <a:xfrm>
            <a:off x="2139840" y="1981080"/>
            <a:ext cx="4862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rt S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tho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2201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ing Blood Pres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hygmomano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(watch from 2 minute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s://www.youtube.com/watch?v=_tt9nXN972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8-091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ing Lung Volu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iro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(watch from 1:45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s://www.youtube.com/watch?v=lWHx31Bqu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BSPIR spirometer 400"/>
          <p:cNvPicPr/>
          <p:nvPr/>
        </p:nvPicPr>
        <p:blipFill>
          <a:blip r:embed="rId1"/>
          <a:stretch/>
        </p:blipFill>
        <p:spPr>
          <a:xfrm>
            <a:off x="4648320" y="2500200"/>
            <a:ext cx="380988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221_lung_volume"/>
          <p:cNvPicPr/>
          <p:nvPr/>
        </p:nvPicPr>
        <p:blipFill>
          <a:blip r:embed="rId1"/>
          <a:stretch/>
        </p:blipFill>
        <p:spPr>
          <a:xfrm>
            <a:off x="1224000" y="609480"/>
            <a:ext cx="6696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8T10:58:11Z</dcterms:created>
  <dc:creator>rubina khan</dc:creator>
  <dc:description/>
  <dc:language>en-US</dc:language>
  <cp:lastModifiedBy>rubina khan</cp:lastModifiedBy>
  <dcterms:modified xsi:type="dcterms:W3CDTF">2016-04-19T18:31:04Z</dcterms:modified>
  <cp:revision>17</cp:revision>
  <dc:subject/>
  <dc:title>PowerPoint Presentation</dc:title>
</cp:coreProperties>
</file>